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5D7-6097-4A87-A30F-BCCE1FA1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97F-E465-4F0D-AB48-4738527F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1D0-F5A2-485B-9089-9CC274F3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F3D-9732-4E5B-A5C8-51F54B2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057-4F02-40DE-8E82-3864974D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2CD-5E42-4DC8-990E-B1DA7792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2D9-ADED-48C8-9FA4-A88686B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C6E-E2C7-4D7F-A23E-48C3226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A3D-CCED-4C9A-A76C-FA2E1E9B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40-0997-4DD7-A04C-6955048C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F18-F4E0-4FBC-887D-83B7E7C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C8D-89E6-4FD1-BF22-94E1719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0D1-E477-4CAE-B6F4-07EF5CD51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3657600"/>
            <a:ext cx="3981240" cy="2665440"/>
            <a:chOff x="324000" y="3657600"/>
            <a:chExt cx="3981240" cy="2665440"/>
          </a:xfrm>
        </p:grpSpPr>
        <p:sp>
          <p:nvSpPr>
            <p:cNvPr id="42" name=""/>
            <p:cNvSpPr/>
            <p:nvPr/>
          </p:nvSpPr>
          <p:spPr>
            <a:xfrm>
              <a:off x="324000" y="3657600"/>
              <a:ext cx="398124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5240" y="507672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17560" y="4203720"/>
              <a:ext cx="1040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tually Exclus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17560" y="5697360"/>
              <a:ext cx="10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3" idx="0"/>
              <a:endCxn id="47" idx="0"/>
            </p:cNvCxnSpPr>
            <p:nvPr/>
          </p:nvCxnSpPr>
          <p:spPr>
            <a:xfrm flipV="1">
              <a:off x="1299600" y="4687560"/>
              <a:ext cx="383400" cy="389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9" idx="0"/>
              <a:endCxn id="43" idx="1"/>
            </p:cNvCxnSpPr>
            <p:nvPr/>
          </p:nvCxnSpPr>
          <p:spPr>
            <a:xfrm flipH="1" flipV="1">
              <a:off x="1299600" y="5076720"/>
              <a:ext cx="439200" cy="88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0" name=""/>
            <p:cNvSpPr/>
            <p:nvPr/>
          </p:nvSpPr>
          <p:spPr>
            <a:xfrm flipV="1">
              <a:off x="1682640" y="4686480"/>
              <a:ext cx="806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8440" y="5961240"/>
              <a:ext cx="80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0" idx="1"/>
              <a:endCxn id="53" idx="0"/>
            </p:cNvCxnSpPr>
            <p:nvPr/>
          </p:nvCxnSpPr>
          <p:spPr>
            <a:xfrm flipV="1">
              <a:off x="2488320" y="4289400"/>
              <a:ext cx="398160" cy="39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55" idx="0"/>
              <a:endCxn id="50" idx="1"/>
            </p:cNvCxnSpPr>
            <p:nvPr/>
          </p:nvCxnSpPr>
          <p:spPr>
            <a:xfrm flipH="1" flipV="1">
              <a:off x="2488320" y="4686480"/>
              <a:ext cx="398160" cy="394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" name=""/>
            <p:cNvSpPr/>
            <p:nvPr/>
          </p:nvSpPr>
          <p:spPr>
            <a:xfrm>
              <a:off x="2886120" y="428940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886120" y="5079600"/>
              <a:ext cx="77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1960" y="3981600"/>
              <a:ext cx="134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place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01960" y="4788000"/>
              <a:ext cx="134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5480" y="481824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1581120" y="1701720"/>
            <a:ext cx="4578480" cy="3424320"/>
            <a:chOff x="1581120" y="1701720"/>
            <a:chExt cx="4578480" cy="3424320"/>
          </a:xfrm>
        </p:grpSpPr>
        <p:grpSp>
          <p:nvGrpSpPr>
            <p:cNvPr id="419" name=""/>
            <p:cNvGrpSpPr/>
            <p:nvPr/>
          </p:nvGrpSpPr>
          <p:grpSpPr>
            <a:xfrm>
              <a:off x="1581120" y="1701720"/>
              <a:ext cx="4578480" cy="3424320"/>
              <a:chOff x="1581120" y="1701720"/>
              <a:chExt cx="4578480" cy="3424320"/>
            </a:xfrm>
          </p:grpSpPr>
          <p:sp>
            <p:nvSpPr>
              <p:cNvPr id="420" name=""/>
              <p:cNvSpPr/>
              <p:nvPr/>
            </p:nvSpPr>
            <p:spPr>
              <a:xfrm>
                <a:off x="1581120" y="1701720"/>
                <a:ext cx="4578480" cy="342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49280" y="1946160"/>
                <a:ext cx="3608640" cy="245124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16160" y="439740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16160" y="413064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16160" y="385128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16160" y="358452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16160" y="3305160"/>
                <a:ext cx="33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16160" y="303840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16160" y="275904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16160" y="249228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16160" y="221292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16160" y="1946160"/>
                <a:ext cx="33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2249280" y="4397040"/>
                <a:ext cx="180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297504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697200" y="4397040"/>
                <a:ext cx="180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41180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13396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857920" y="4397040"/>
                <a:ext cx="144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395440" y="2065320"/>
                <a:ext cx="21132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606760" y="2357280"/>
                <a:ext cx="368280" cy="42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75040" y="2781360"/>
                <a:ext cx="35568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0720" y="3135240"/>
                <a:ext cx="3664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97200" y="3425760"/>
                <a:ext cx="357120" cy="2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54320" y="3668760"/>
                <a:ext cx="357480" cy="21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11800" y="3886200"/>
                <a:ext cx="366480" cy="1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8280" y="4068720"/>
                <a:ext cx="35568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60520" y="203040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3280" y="232236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0120" y="274644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97240" y="309888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65520" y="338940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19400" y="3632040"/>
                <a:ext cx="6696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76880" y="3851280"/>
                <a:ext cx="66600" cy="7308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1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45160" y="4033800"/>
                <a:ext cx="66600" cy="716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0" y="0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00480" y="41911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21" y="0"/>
                    </a:moveTo>
                    <a:lnTo>
                      <a:pt x="42" y="41"/>
                    </a:lnTo>
                    <a:lnTo>
                      <a:pt x="0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82520" y="431316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94120" y="4046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026800" y="3767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26800" y="35002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26800" y="3220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26800" y="29527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59840" y="26733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59840" y="2406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9840" y="21272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59840" y="18604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15360" y="4505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39320" y="4505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2980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4260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96656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90520" y="450540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.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63640" y="4762440"/>
                <a:ext cx="992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scount Rate, 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6200000">
                <a:off x="1028160" y="3167280"/>
                <a:ext cx="1559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et Present Value, NPV(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254320" y="4132440"/>
                <a:ext cx="360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4799160" y="307800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943520" y="3468600"/>
              <a:ext cx="21888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351160" y="1998720"/>
            <a:ext cx="4452840" cy="3322440"/>
            <a:chOff x="2351160" y="1998720"/>
            <a:chExt cx="4452840" cy="3322440"/>
          </a:xfrm>
        </p:grpSpPr>
        <p:grpSp>
          <p:nvGrpSpPr>
            <p:cNvPr id="477" name=""/>
            <p:cNvGrpSpPr/>
            <p:nvPr/>
          </p:nvGrpSpPr>
          <p:grpSpPr>
            <a:xfrm>
              <a:off x="2351160" y="1998720"/>
              <a:ext cx="4452840" cy="3322440"/>
              <a:chOff x="2351160" y="1998720"/>
              <a:chExt cx="4452840" cy="3322440"/>
            </a:xfrm>
          </p:grpSpPr>
          <p:sp>
            <p:nvSpPr>
              <p:cNvPr id="478" name=""/>
              <p:cNvSpPr/>
              <p:nvPr/>
            </p:nvSpPr>
            <p:spPr>
              <a:xfrm>
                <a:off x="2351160" y="1998720"/>
                <a:ext cx="4452840" cy="332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82960" y="2238480"/>
                <a:ext cx="3595680" cy="237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49480" y="461340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49480" y="421812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49480" y="382284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49480" y="3425760"/>
                <a:ext cx="33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49480" y="3030480"/>
                <a:ext cx="33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49480" y="263376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49480" y="2238480"/>
                <a:ext cx="33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298296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370692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441972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514188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585468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578640" y="4613040"/>
                <a:ext cx="144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82960" y="2525760"/>
                <a:ext cx="73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52800" y="2525760"/>
                <a:ext cx="0" cy="73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56040" y="3259080"/>
                <a:ext cx="65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704760" y="3257640"/>
                <a:ext cx="18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03680" y="3487680"/>
                <a:ext cx="1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37120" y="3605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94120" y="3606840"/>
                <a:ext cx="82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714920" y="3605400"/>
                <a:ext cx="0" cy="9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13120" y="3702240"/>
                <a:ext cx="497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10280" y="3702240"/>
                <a:ext cx="1440" cy="8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210280" y="37861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72080" y="3786120"/>
                <a:ext cx="144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5572080" y="3820680"/>
                <a:ext cx="4302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5280" y="452916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23400" y="4133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723400" y="37386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23400" y="3341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23400" y="29462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23400" y="25495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23400" y="21542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49120" y="472140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0468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1712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3964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5244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76400" y="47214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56840" y="4973760"/>
                <a:ext cx="1387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umulative Invest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6200000">
                <a:off x="2471760" y="33447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R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351160" y="1998720"/>
                <a:ext cx="4452840" cy="33224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94120" y="3489480"/>
                <a:ext cx="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141880" y="2733480"/>
              <a:ext cx="0" cy="18666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5720" y="2847960"/>
              <a:ext cx="134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 Budg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5198760" y="3095640"/>
              <a:ext cx="48564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668160" y="492120"/>
            <a:ext cx="5135760" cy="3095640"/>
            <a:chOff x="668160" y="492120"/>
            <a:chExt cx="5135760" cy="3095640"/>
          </a:xfrm>
        </p:grpSpPr>
        <p:sp>
          <p:nvSpPr>
            <p:cNvPr id="62" name=""/>
            <p:cNvSpPr/>
            <p:nvPr/>
          </p:nvSpPr>
          <p:spPr>
            <a:xfrm>
              <a:off x="668160" y="492120"/>
              <a:ext cx="5135760" cy="309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720" y="1460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73480" y="61452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8480" y="25956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1120" y="259560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73280" y="24433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95800" y="24433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70280" y="274788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36720" y="282420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73480" y="196200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68160" y="289080"/>
            <a:ext cx="5245200" cy="4417920"/>
            <a:chOff x="668160" y="289080"/>
            <a:chExt cx="5245200" cy="4417920"/>
          </a:xfrm>
        </p:grpSpPr>
        <p:sp>
          <p:nvSpPr>
            <p:cNvPr id="80" name=""/>
            <p:cNvSpPr/>
            <p:nvPr/>
          </p:nvSpPr>
          <p:spPr>
            <a:xfrm>
              <a:off x="668160" y="289080"/>
              <a:ext cx="5245200" cy="441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8480" y="25621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51120" y="25621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3280" y="2409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95800" y="2409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70280" y="27147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47880" y="196992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47880" y="6285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98480" y="38782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4000" y="38782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16520" y="37260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8680" y="37260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70280" y="40305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47880" y="32860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595440" y="1708200"/>
            <a:ext cx="5244840" cy="4797360"/>
            <a:chOff x="595440" y="1708200"/>
            <a:chExt cx="5244840" cy="4797360"/>
          </a:xfrm>
        </p:grpSpPr>
        <p:sp>
          <p:nvSpPr>
            <p:cNvPr id="102" name=""/>
            <p:cNvSpPr/>
            <p:nvPr/>
          </p:nvSpPr>
          <p:spPr>
            <a:xfrm>
              <a:off x="595440" y="1708200"/>
              <a:ext cx="5244840" cy="47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25760" y="41371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8040" y="41371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0200" y="39844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22720" y="398448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97560" y="42894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800" y="35337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25760" y="56008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8040" y="56008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0200" y="544824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22720" y="544824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7560" y="5753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74800" y="50086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0440" y="26892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2720" y="268920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0524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2740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49560" y="2536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2240" y="28414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9480" y="208584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73520" y="25383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68160" y="289080"/>
            <a:ext cx="5245200" cy="4503600"/>
            <a:chOff x="668160" y="289080"/>
            <a:chExt cx="5245200" cy="4503600"/>
          </a:xfrm>
        </p:grpSpPr>
        <p:sp>
          <p:nvSpPr>
            <p:cNvPr id="124" name=""/>
            <p:cNvSpPr/>
            <p:nvPr/>
          </p:nvSpPr>
          <p:spPr>
            <a:xfrm>
              <a:off x="668160" y="289080"/>
              <a:ext cx="5245200" cy="450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98480" y="123192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1120" y="123192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328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580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17960" y="10796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70280" y="1384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7880" y="6285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1920" y="10810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8480" y="382896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51120" y="38289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3280" y="36766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95800" y="36766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0280" y="3981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7880" y="323676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7320" y="367992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51280" y="36813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92360" y="245268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44640" y="245268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67160" y="2300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89320" y="230040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64160" y="2604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41400" y="1860480"/>
              <a:ext cx="14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8680" y="3490920"/>
            <a:ext cx="4505400" cy="3178080"/>
            <a:chOff x="58680" y="3490920"/>
            <a:chExt cx="4505400" cy="3178080"/>
          </a:xfrm>
        </p:grpSpPr>
        <p:sp>
          <p:nvSpPr>
            <p:cNvPr id="148" name=""/>
            <p:cNvSpPr/>
            <p:nvPr/>
          </p:nvSpPr>
          <p:spPr>
            <a:xfrm>
              <a:off x="58680" y="3490920"/>
              <a:ext cx="4505400" cy="317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5160" y="3714840"/>
              <a:ext cx="3381480" cy="2282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8800" y="59976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8800" y="57182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8800" y="54277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8800" y="51465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8800" y="48560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8800" y="45766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8800" y="42861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8800" y="4005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8800" y="3714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965160" y="59972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64160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1948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99412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670200" y="59972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346640" y="59972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03200" y="4071960"/>
              <a:ext cx="338400" cy="717480"/>
            </a:xfrm>
            <a:custGeom>
              <a:avLst/>
              <a:gdLst/>
              <a:ahLst/>
              <a:rect l="l" t="t" r="r" b="b"/>
              <a:pathLst>
                <a:path w="209" h="470">
                  <a:moveTo>
                    <a:pt x="0" y="0"/>
                  </a:moveTo>
                  <a:lnTo>
                    <a:pt x="52" y="125"/>
                  </a:lnTo>
                  <a:lnTo>
                    <a:pt x="104" y="257"/>
                  </a:lnTo>
                  <a:lnTo>
                    <a:pt x="134" y="316"/>
                  </a:lnTo>
                  <a:lnTo>
                    <a:pt x="157" y="375"/>
                  </a:lnTo>
                  <a:lnTo>
                    <a:pt x="187" y="426"/>
                  </a:lnTo>
                  <a:lnTo>
                    <a:pt x="209" y="4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1600" y="4789440"/>
              <a:ext cx="338040" cy="190440"/>
            </a:xfrm>
            <a:custGeom>
              <a:avLst/>
              <a:gdLst/>
              <a:ahLst/>
              <a:rect l="l" t="t" r="r" b="b"/>
              <a:pathLst>
                <a:path w="210" h="125">
                  <a:moveTo>
                    <a:pt x="0" y="0"/>
                  </a:moveTo>
                  <a:lnTo>
                    <a:pt x="23" y="30"/>
                  </a:lnTo>
                  <a:lnTo>
                    <a:pt x="53" y="59"/>
                  </a:lnTo>
                  <a:lnTo>
                    <a:pt x="75" y="74"/>
                  </a:lnTo>
                  <a:lnTo>
                    <a:pt x="105" y="88"/>
                  </a:lnTo>
                  <a:lnTo>
                    <a:pt x="157" y="110"/>
                  </a:lnTo>
                  <a:lnTo>
                    <a:pt x="210" y="1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9640" y="4979880"/>
              <a:ext cx="339840" cy="66960"/>
            </a:xfrm>
            <a:custGeom>
              <a:avLst/>
              <a:gdLst/>
              <a:ahLst/>
              <a:rect l="l" t="t" r="r" b="b"/>
              <a:pathLst>
                <a:path w="210" h="44">
                  <a:moveTo>
                    <a:pt x="0" y="0"/>
                  </a:moveTo>
                  <a:lnTo>
                    <a:pt x="52" y="15"/>
                  </a:lnTo>
                  <a:lnTo>
                    <a:pt x="105" y="29"/>
                  </a:lnTo>
                  <a:lnTo>
                    <a:pt x="210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9480" y="5046840"/>
              <a:ext cx="336240" cy="10800"/>
            </a:xfrm>
            <a:custGeom>
              <a:avLst/>
              <a:gdLst/>
              <a:ahLst/>
              <a:rect l="l" t="t" r="r" b="b"/>
              <a:pathLst>
                <a:path w="209" h="7">
                  <a:moveTo>
                    <a:pt x="0" y="0"/>
                  </a:moveTo>
                  <a:lnTo>
                    <a:pt x="104" y="7"/>
                  </a:lnTo>
                  <a:lnTo>
                    <a:pt x="209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55720" y="5035680"/>
              <a:ext cx="338400" cy="21960"/>
            </a:xfrm>
            <a:custGeom>
              <a:avLst/>
              <a:gdLst/>
              <a:ahLst/>
              <a:rect l="l" t="t" r="r" b="b"/>
              <a:pathLst>
                <a:path w="210" h="14">
                  <a:moveTo>
                    <a:pt x="0" y="14"/>
                  </a:moveTo>
                  <a:lnTo>
                    <a:pt x="105" y="7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994120" y="4989600"/>
              <a:ext cx="3380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32160" y="4923000"/>
              <a:ext cx="338040" cy="66600"/>
            </a:xfrm>
            <a:custGeom>
              <a:avLst/>
              <a:gdLst/>
              <a:ahLst/>
              <a:rect l="l" t="t" r="r" b="b"/>
              <a:pathLst>
                <a:path w="210" h="44">
                  <a:moveTo>
                    <a:pt x="0" y="44"/>
                  </a:moveTo>
                  <a:lnTo>
                    <a:pt x="105" y="22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03200" y="4430880"/>
              <a:ext cx="338400" cy="749160"/>
            </a:xfrm>
            <a:custGeom>
              <a:avLst/>
              <a:gdLst/>
              <a:ahLst/>
              <a:rect l="l" t="t" r="r" b="b"/>
              <a:pathLst>
                <a:path w="209" h="492">
                  <a:moveTo>
                    <a:pt x="0" y="0"/>
                  </a:moveTo>
                  <a:lnTo>
                    <a:pt x="52" y="132"/>
                  </a:lnTo>
                  <a:lnTo>
                    <a:pt x="104" y="265"/>
                  </a:lnTo>
                  <a:lnTo>
                    <a:pt x="134" y="331"/>
                  </a:lnTo>
                  <a:lnTo>
                    <a:pt x="157" y="389"/>
                  </a:lnTo>
                  <a:lnTo>
                    <a:pt x="187" y="448"/>
                  </a:lnTo>
                  <a:lnTo>
                    <a:pt x="209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41600" y="5180040"/>
              <a:ext cx="338040" cy="247680"/>
            </a:xfrm>
            <a:custGeom>
              <a:avLst/>
              <a:gdLst/>
              <a:ahLst/>
              <a:rect l="l" t="t" r="r" b="b"/>
              <a:pathLst>
                <a:path w="210" h="162">
                  <a:moveTo>
                    <a:pt x="0" y="0"/>
                  </a:moveTo>
                  <a:lnTo>
                    <a:pt x="23" y="37"/>
                  </a:lnTo>
                  <a:lnTo>
                    <a:pt x="53" y="66"/>
                  </a:lnTo>
                  <a:lnTo>
                    <a:pt x="75" y="88"/>
                  </a:lnTo>
                  <a:lnTo>
                    <a:pt x="105" y="103"/>
                  </a:lnTo>
                  <a:lnTo>
                    <a:pt x="157" y="132"/>
                  </a:lnTo>
                  <a:lnTo>
                    <a:pt x="210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9640" y="5427720"/>
              <a:ext cx="339840" cy="122040"/>
            </a:xfrm>
            <a:custGeom>
              <a:avLst/>
              <a:gdLst/>
              <a:ahLst/>
              <a:rect l="l" t="t" r="r" b="b"/>
              <a:pathLst>
                <a:path w="210" h="80">
                  <a:moveTo>
                    <a:pt x="0" y="0"/>
                  </a:moveTo>
                  <a:lnTo>
                    <a:pt x="52" y="29"/>
                  </a:lnTo>
                  <a:lnTo>
                    <a:pt x="105" y="51"/>
                  </a:lnTo>
                  <a:lnTo>
                    <a:pt x="210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19480" y="5549760"/>
              <a:ext cx="336240" cy="66960"/>
            </a:xfrm>
            <a:custGeom>
              <a:avLst/>
              <a:gdLst/>
              <a:ahLst/>
              <a:rect l="l" t="t" r="r" b="b"/>
              <a:pathLst>
                <a:path w="209" h="44">
                  <a:moveTo>
                    <a:pt x="0" y="0"/>
                  </a:moveTo>
                  <a:lnTo>
                    <a:pt x="104" y="22"/>
                  </a:lnTo>
                  <a:lnTo>
                    <a:pt x="209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55720" y="5616720"/>
              <a:ext cx="338400" cy="56880"/>
            </a:xfrm>
            <a:custGeom>
              <a:avLst/>
              <a:gdLst/>
              <a:ahLst/>
              <a:rect l="l" t="t" r="r" b="b"/>
              <a:pathLst>
                <a:path w="210" h="37">
                  <a:moveTo>
                    <a:pt x="0" y="0"/>
                  </a:moveTo>
                  <a:lnTo>
                    <a:pt x="105" y="22"/>
                  </a:lnTo>
                  <a:lnTo>
                    <a:pt x="210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4120" y="5673600"/>
              <a:ext cx="3380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2160" y="570708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03200" y="5605560"/>
              <a:ext cx="338400" cy="34920"/>
            </a:xfrm>
            <a:custGeom>
              <a:avLst/>
              <a:gdLst/>
              <a:ahLst/>
              <a:rect l="l" t="t" r="r" b="b"/>
              <a:pathLst>
                <a:path w="209" h="22">
                  <a:moveTo>
                    <a:pt x="0" y="22"/>
                  </a:moveTo>
                  <a:lnTo>
                    <a:pt x="104" y="15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41600" y="5549760"/>
              <a:ext cx="338040" cy="55800"/>
            </a:xfrm>
            <a:custGeom>
              <a:avLst/>
              <a:gdLst/>
              <a:ahLst/>
              <a:rect l="l" t="t" r="r" b="b"/>
              <a:pathLst>
                <a:path w="210" h="37">
                  <a:moveTo>
                    <a:pt x="0" y="37"/>
                  </a:moveTo>
                  <a:lnTo>
                    <a:pt x="105" y="22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79640" y="5494320"/>
              <a:ext cx="3398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9480" y="5438880"/>
              <a:ext cx="336240" cy="55440"/>
            </a:xfrm>
            <a:custGeom>
              <a:avLst/>
              <a:gdLst/>
              <a:ahLst/>
              <a:rect l="l" t="t" r="r" b="b"/>
              <a:pathLst>
                <a:path w="209" h="37">
                  <a:moveTo>
                    <a:pt x="0" y="37"/>
                  </a:moveTo>
                  <a:lnTo>
                    <a:pt x="104" y="22"/>
                  </a:lnTo>
                  <a:lnTo>
                    <a:pt x="20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5361120"/>
              <a:ext cx="338400" cy="77760"/>
            </a:xfrm>
            <a:custGeom>
              <a:avLst/>
              <a:gdLst/>
              <a:ahLst/>
              <a:rect l="l" t="t" r="r" b="b"/>
              <a:pathLst>
                <a:path w="210" h="51">
                  <a:moveTo>
                    <a:pt x="0" y="51"/>
                  </a:moveTo>
                  <a:lnTo>
                    <a:pt x="105" y="29"/>
                  </a:lnTo>
                  <a:lnTo>
                    <a:pt x="2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994120" y="5281200"/>
              <a:ext cx="3380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332160" y="5190840"/>
              <a:ext cx="338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4880" y="5919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2160" y="5640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2160" y="53481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2160" y="5068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2160" y="4780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720" y="4497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8720" y="42084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720" y="3927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8720" y="3635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2844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452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096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5704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34920" y="609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3560" y="6099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3760" y="63342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maining life,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-696600" y="4820400"/>
              <a:ext cx="20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quivalent Annual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ge (EA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680" y="3490920"/>
              <a:ext cx="4505400" cy="317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1840" y="4786200"/>
              <a:ext cx="51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1840" y="5084640"/>
              <a:ext cx="49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O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1840" y="5572080"/>
              <a:ext cx="39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8680" y="5057640"/>
              <a:ext cx="1702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0760" y="5060880"/>
              <a:ext cx="0" cy="9334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5560" y="4400640"/>
              <a:ext cx="85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49640" y="5749920"/>
              <a:ext cx="4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0320" y="4657680"/>
              <a:ext cx="35244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55440" y="3494160"/>
            <a:ext cx="4456080" cy="3303360"/>
            <a:chOff x="55440" y="3494160"/>
            <a:chExt cx="4456080" cy="3303360"/>
          </a:xfrm>
        </p:grpSpPr>
        <p:sp>
          <p:nvSpPr>
            <p:cNvPr id="213" name=""/>
            <p:cNvSpPr/>
            <p:nvPr/>
          </p:nvSpPr>
          <p:spPr>
            <a:xfrm>
              <a:off x="55440" y="3494160"/>
              <a:ext cx="4456080" cy="330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42680" y="6507000"/>
              <a:ext cx="171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value of the defe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0400" y="3728880"/>
              <a:ext cx="3343320" cy="2455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6920" y="6184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6920" y="58752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6920" y="55767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6920" y="5261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920" y="4959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6920" y="46465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6920" y="4349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6920" y="4038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920" y="37288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0400" y="4959360"/>
              <a:ext cx="334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86040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7496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089160" y="617832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203720" y="61783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5640" y="3855960"/>
              <a:ext cx="45216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4336920"/>
              <a:ext cx="44136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9160" y="4819680"/>
              <a:ext cx="44136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30520" y="5302080"/>
              <a:ext cx="452520" cy="48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9480" y="6105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480" y="5796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80" y="5495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480" y="51865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5960" y="487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4120" y="4567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4120" y="42688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120" y="3957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120" y="3648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6560" y="628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320" y="6283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2040" y="62834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26600" y="62834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-171360" y="487404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(D)-NPV(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32040" y="5667480"/>
              <a:ext cx="4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217680" y="566748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18040" y="559440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040" y="58104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llen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1560" y="5281560"/>
              <a:ext cx="14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e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289240" y="1701720"/>
            <a:ext cx="4578120" cy="3424320"/>
            <a:chOff x="2289240" y="1701720"/>
            <a:chExt cx="4578120" cy="3424320"/>
          </a:xfrm>
        </p:grpSpPr>
        <p:sp>
          <p:nvSpPr>
            <p:cNvPr id="254" name=""/>
            <p:cNvSpPr/>
            <p:nvPr/>
          </p:nvSpPr>
          <p:spPr>
            <a:xfrm>
              <a:off x="2289240" y="1701720"/>
              <a:ext cx="457812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57040" y="1946160"/>
              <a:ext cx="3608280" cy="2451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3920" y="439740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23920" y="413064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23920" y="385128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3920" y="358452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23920" y="3305160"/>
              <a:ext cx="32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23920" y="303840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3920" y="275904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23920" y="249228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23920" y="221292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23920" y="1946160"/>
              <a:ext cx="32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957040" y="43970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68280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04960" y="43970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11956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84172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565680" y="4397040"/>
              <a:ext cx="1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3200" y="2065320"/>
              <a:ext cx="2109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14520" y="2357280"/>
              <a:ext cx="36792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2800" y="2781360"/>
              <a:ext cx="35532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3135240"/>
              <a:ext cx="366120" cy="29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4960" y="3425760"/>
              <a:ext cx="35676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62080" y="3668760"/>
              <a:ext cx="357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9560" y="3886200"/>
              <a:ext cx="36612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040" y="4068720"/>
              <a:ext cx="3553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03200" y="2103480"/>
              <a:ext cx="21096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14520" y="2443320"/>
              <a:ext cx="367920" cy="46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82800" y="2903400"/>
              <a:ext cx="35532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8480" y="3268800"/>
              <a:ext cx="36612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04960" y="3548160"/>
              <a:ext cx="35676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62080" y="3767040"/>
              <a:ext cx="35712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19560" y="3948120"/>
              <a:ext cx="3661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6040" y="4081320"/>
              <a:ext cx="35532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68280" y="203040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81040" y="232236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47880" y="274644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05000" y="3098880"/>
              <a:ext cx="66240" cy="712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73280" y="338940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27160" y="3632040"/>
              <a:ext cx="6660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4640" y="3851280"/>
              <a:ext cx="66240" cy="730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2920" y="4033800"/>
              <a:ext cx="66240" cy="7164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0" y="0"/>
                  </a:moveTo>
                  <a:lnTo>
                    <a:pt x="41" y="41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8240" y="4191120"/>
              <a:ext cx="68040" cy="7308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42" y="41"/>
                  </a:lnTo>
                  <a:lnTo>
                    <a:pt x="0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8280" y="2065320"/>
              <a:ext cx="6624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1040" y="240660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47880" y="286848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05000" y="3232080"/>
              <a:ext cx="662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3280" y="3510000"/>
              <a:ext cx="6624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7160" y="3728880"/>
              <a:ext cx="6660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84640" y="3911760"/>
              <a:ext cx="6624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52920" y="4046400"/>
              <a:ext cx="662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08240" y="4154400"/>
              <a:ext cx="6804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9920" y="4313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01520" y="404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34200" y="376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4200" y="3500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34200" y="322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4200" y="295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67600" y="2673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67600" y="2406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67600" y="2127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7600" y="186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23120" y="4505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47080" y="4505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720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5000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396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97920" y="45054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.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1400" y="476244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1737360" y="3168720"/>
              <a:ext cx="155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62080" y="4132440"/>
              <a:ext cx="36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09680" y="2620800"/>
              <a:ext cx="72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00120" y="3306600"/>
              <a:ext cx="72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2289240" y="1414440"/>
            <a:ext cx="4578120" cy="3424320"/>
            <a:chOff x="2289240" y="1414440"/>
            <a:chExt cx="4578120" cy="3424320"/>
          </a:xfrm>
        </p:grpSpPr>
        <p:sp>
          <p:nvSpPr>
            <p:cNvPr id="328" name=""/>
            <p:cNvSpPr/>
            <p:nvPr/>
          </p:nvSpPr>
          <p:spPr>
            <a:xfrm>
              <a:off x="2289240" y="1414440"/>
              <a:ext cx="457812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54160" y="1638360"/>
              <a:ext cx="3206160" cy="2529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23920" y="41673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23920" y="385452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23920" y="35402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23920" y="321624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23920" y="29037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3920" y="258912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23920" y="22766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23920" y="19512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163836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95416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661920" y="416736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37976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8932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806800" y="4167360"/>
              <a:ext cx="108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954160" y="3887640"/>
              <a:ext cx="1472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101760" y="3719520"/>
              <a:ext cx="13284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234960" y="3564000"/>
              <a:ext cx="14724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382560" y="3417840"/>
              <a:ext cx="1443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527280" y="3282480"/>
              <a:ext cx="13428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61920" y="3159000"/>
              <a:ext cx="14580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808080" y="3036960"/>
              <a:ext cx="145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54240" y="2923920"/>
              <a:ext cx="145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100040" y="2824200"/>
              <a:ext cx="1346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235040" y="2724120"/>
              <a:ext cx="144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379760" y="2633400"/>
              <a:ext cx="147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527360" y="2556000"/>
              <a:ext cx="1328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660560" y="2478240"/>
              <a:ext cx="1472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808160" y="2398320"/>
              <a:ext cx="1443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952880" y="2331720"/>
              <a:ext cx="13608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089320" y="2265120"/>
              <a:ext cx="1440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233680" y="2207880"/>
              <a:ext cx="1440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378040" y="2152800"/>
              <a:ext cx="136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514840" y="2096640"/>
              <a:ext cx="144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659200" y="2052360"/>
              <a:ext cx="147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49520" y="4167360"/>
              <a:ext cx="4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157440" y="38116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57440" y="344016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57440" y="30844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57440" y="2724120"/>
              <a:ext cx="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62480" y="2363760"/>
              <a:ext cx="37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57440" y="1997280"/>
              <a:ext cx="37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9000" y="1638360"/>
              <a:ext cx="61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234960" y="3183120"/>
              <a:ext cx="14724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382560" y="2733840"/>
              <a:ext cx="144360" cy="44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27280" y="2455920"/>
              <a:ext cx="13428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661920" y="2276640"/>
              <a:ext cx="14580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808080" y="2165040"/>
              <a:ext cx="145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954240" y="2074680"/>
              <a:ext cx="1454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100040" y="2018880"/>
              <a:ext cx="1346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235040" y="1974600"/>
              <a:ext cx="14436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79760" y="1939680"/>
              <a:ext cx="147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527360" y="1917720"/>
              <a:ext cx="132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660560" y="1906200"/>
              <a:ext cx="1472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808160" y="1884240"/>
              <a:ext cx="14436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952880" y="1874520"/>
              <a:ext cx="13608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89320" y="1874880"/>
              <a:ext cx="14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233680" y="1861920"/>
              <a:ext cx="144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78040" y="186228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514840" y="1850760"/>
              <a:ext cx="1440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59200" y="1851120"/>
              <a:ext cx="147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42040" y="4087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42040" y="3774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05760" y="3460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8720" y="3138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45360" y="2824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3440" y="2511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83440" y="2197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83440" y="1874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83440" y="1560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23200" y="426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29520" y="426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1712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2488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2720" y="426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35960" y="4502160"/>
              <a:ext cx="110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Lif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2378160" y="281268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42760" y="408780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42760" y="37306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42760" y="33609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42760" y="30034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42760" y="264636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42760" y="2287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42760" y="1917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42760" y="1560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6200000">
              <a:off x="6527880" y="2810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46240" y="3216240"/>
              <a:ext cx="321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65280" y="1924200"/>
              <a:ext cx="50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46240" y="25527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15:41:43Z</dcterms:created>
  <dc:creator>Frank</dc:creator>
  <dc:description/>
  <dc:language>en-US</dc:language>
  <cp:lastModifiedBy>frank crundwell</cp:lastModifiedBy>
  <dcterms:modified xsi:type="dcterms:W3CDTF">2007-08-16T16:47:29Z</dcterms:modified>
  <cp:revision>23</cp:revision>
  <dc:subject/>
  <dc:title>PowerPoint Presentation</dc:title>
</cp:coreProperties>
</file>